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650-BCCD-4CB4-9635-38E95DD0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93C-82B0-4C9D-B785-414192C9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F24-8946-4175-AFFE-F2AC7D12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F7B-C686-478A-8F67-B9216683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761-10DC-4B12-961E-4D8B8418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441-083D-48D6-895B-0D0F8BA2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F44-923D-4053-816A-F7130127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45F-5157-45D1-980B-8D3F36C9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28B-34FB-44B9-9915-A6EAD68D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982-BD67-466B-A9FA-D67B2EBD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FAA-A6EE-4E1A-9E01-3BD45B49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274-A2B8-42DB-BBDB-BF4A26B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9F0A-1DB1-447A-9AAB-851026515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2673360" cy="33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3851280" y="3830760"/>
            <a:ext cx="514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99ff"/>
                </a:solidFill>
                <a:latin typeface="comic"/>
              </a:rPr>
              <a:t>29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да бъде с вас,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довиждане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 вас да е благодатта Му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мирът, и любовта Му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225000" cy="689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4000" y="260280"/>
            <a:ext cx="55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 От лукавий да ви брани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с небесна манна храни!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6000" y="549360"/>
            <a:ext cx="2781360" cy="236376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826920" y="2973240"/>
            <a:ext cx="5329440" cy="393444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 Свои чада да ви счита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од особена защита!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92720" y="501480"/>
            <a:ext cx="3284640" cy="213552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900000" y="2708280"/>
            <a:ext cx="5688000" cy="393444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 Той да бъде ваш Учител, Спътник, Вожд и Покровител! Бог да бъде с вас, довиждане!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8:36:37Z</dcterms:created>
  <dc:creator>TrifonTrifonow</dc:creator>
  <dc:description/>
  <dc:language>en-US</dc:language>
  <cp:lastModifiedBy>TrifonTrifonow</cp:lastModifiedBy>
  <dcterms:modified xsi:type="dcterms:W3CDTF">2005-12-08T09:25:35Z</dcterms:modified>
  <cp:revision>17</cp:revision>
  <dc:subject/>
  <dc:title>Slide 1</dc:title>
</cp:coreProperties>
</file>